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C81-E278-46D8-B5B3-99313102B50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do you decide who goes in which group and with wh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3285-C648-48C4-876A-33619C82A7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for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reakthrough Framework- Precision &amp; Person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: what data can we use to form instructional n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o GR observation/monitoring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use Ondemand Adaptive,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o Ondemand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ther formal assessments- What else do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dependent Reading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Teaching for Reading strategies for further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3D86-71CF-496A-8075-6236D6D00A8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Progress%20Report%2034.pd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200" spc="-1" strike="noStrike">
                <a:solidFill>
                  <a:srgbClr val="000000"/>
                </a:solidFill>
                <a:latin typeface="Arial"/>
              </a:rPr>
              <a:t>Teacher prompts and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Guided Reading is NO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ound Robin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Taking in turns to read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ciprocal reading/teach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ilent reading and completing comprehension ques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 group of students working together on the same text without their teacher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 group of students working with another adul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aying in the one group all year or term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o are we going to work with? (Grouping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we going to teach them (focus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we going to use? (Texts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3000"/>
          </a:bodyPr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 algn="ctr">
              <a:spcBef>
                <a:spcPts val="11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4b4b4b"/>
                </a:solidFill>
                <a:latin typeface="Arial"/>
              </a:rPr>
              <a:t>Focussed, deliberate observations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dependent Reading Conference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Reading Response Journal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Observations during whole class session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Previous Guided reading session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On Demand: Adaptive, Linear or </a:t>
            </a: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Progress report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ing for Strategie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Shoulder talk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uided Reading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79440" y="671400"/>
            <a:ext cx="12244320" cy="84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aplan and Aim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Write Time for Kids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tching onto Comprehension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ets of guided reading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ewspaper 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309680" y="1062000"/>
            <a:ext cx="10304640" cy="75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4000"/>
          </a:bodyPr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he rest of the class is actively engaged in reading that they can do without support.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They are practising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ad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reading tasks which reinforce a prior teaching focu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texts to practise 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texts to practise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sponding to texts they have read or are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Listening to quality literature being read aloud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Revisit Shared Reading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 your head, think - what have you stopped doing what have you started doing and what has stayed the same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1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4b4b4b"/>
                </a:solidFill>
                <a:latin typeface="Arial"/>
              </a:rPr>
              <a:t>Share with a partner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8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7200" spc="-1" strike="noStrike">
                <a:solidFill>
                  <a:srgbClr val="4b4b4b"/>
                </a:solidFill>
                <a:latin typeface="Arial"/>
              </a:rPr>
              <a:t>Comments?</a:t>
            </a:r>
            <a:endParaRPr b="0" lang="en-US" sz="7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397240" y="3583080"/>
            <a:ext cx="576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5565600" y="3510000"/>
            <a:ext cx="57636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8734320" y="3510000"/>
            <a:ext cx="57636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50880" y="1709640"/>
            <a:ext cx="11702880" cy="70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68160" y="628560"/>
            <a:ext cx="11450880" cy="83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965240" y="3006720"/>
            <a:ext cx="907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We need to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Planning needs to includ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827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the supports that this text provides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the challenges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rategies: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ithin the text – solving words, searching and using information, summarising, searching and using informatio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Beyond the text – predicting, making connections, inferring, synthesis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bout the text – analysing, critiqu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Ref: Fountas and Pinnell</a:t>
            </a:r>
            <a:endParaRPr b="0" lang="en-US" sz="2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Framework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roducing – Building common backgroun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ading – text is broken into stopping point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Discussing – continual – students need to learn protoco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Teaching – every teachable momen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1 2.V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Year 7.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ww.education.vic.gov.au/studentlearning</a:t>
            </a:r>
            <a:r>
              <a:rPr b="0" lang="en-AU" sz="23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AU" sz="23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r>
              <a:rPr b="0" lang="en-AU" sz="23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30320" y="0"/>
            <a:ext cx="1062216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72880" y="127800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134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5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34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AU" sz="5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 June</a:t>
            </a:r>
            <a:endParaRPr b="0" lang="en-US" sz="5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9 – 11 am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Here to suppor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Book with Penn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their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purposeful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ir way through a common tex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rking collaborative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8160" y="628560"/>
            <a:ext cx="11450880" cy="83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09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purposeful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ir way through a common tex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rking collaborative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8:24Z</dcterms:created>
  <dc:creator>Cato Purnell</dc:creator>
  <dc:description/>
  <dc:language>en-US</dc:language>
  <cp:lastModifiedBy>00888204</cp:lastModifiedBy>
  <dcterms:modified xsi:type="dcterms:W3CDTF">2011-06-07T03:00:05Z</dcterms:modified>
  <cp:revision>56</cp:revision>
  <dc:subject/>
  <dc:title>PowerPoint Presentation</dc:title>
</cp:coreProperties>
</file>